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DA3A-302B-479A-A587-425D682C55A2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 to you Anike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 and Chemical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(C2H3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at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, sharp od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 Point – -7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weight: 57.05 dal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ing point (760 mm Hg): 102ºF (39.1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zing point: -49º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pressure: 348 mm Hg at 68ºF (20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density: 1.42 (air = 1.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solubility: Reactive 6.7% at 68ºF (20º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ility: Highly flamm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le Range: 5.3% to 26% (concentration in ai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C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Isocyanate is on the Hazardous Substances List and is regulated by OSHA and cited by ACGIH, DOT, EPA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 the Special Health Hazard Substance List because it is flammable and re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ergenc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Dumped by Union Carbide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hazard dumping of Hazardous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, Nickel, Copper, Chromium, Hexachlorocyclohexane and chlorobenzenes were found in soil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was found to be between 20,000 to 6,000,000 times the standard level in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and Legal Asp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of $470 million ($500 per dea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years of passiv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was reviewed and put up in American Co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,000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,000 SEVERELY AFF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you thought only weap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cause Mass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st the worst Industrail Disasters of it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rence: 3rd December 198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of occurrence: Bhopal, Madhya Pradesh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: Union Carbide 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: Methyl Isocyanate (27 ton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hopal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ed in 1969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gene, Monomethlyamine, Methyl Isocyanate (MIC) and the pesticide Carbaryl, also known as Sev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n over by DOW Chemicals in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Human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Disorders – Irritation to the lungs, causing coughing and/or shortness of breathing. Higher exposure caused build up of fluids (pulmonary edema). Caused Asth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Hazard – Caused mutation (genetic changes). It caused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Hazard – Association between exposure to Methyl Isocyanate and miscarriages. It may damage the growing fetus.May also affect fertility in men and wo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many toxins were found in the Brest Milk of mothers and were inturn transmitted to the recepient bab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Sl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0E98-2C64-4C7C-BB1E-CDDEA1AB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235-CE48-4B1E-B9F2-35AFC70E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FB54-6DB5-4E9B-A241-1C3571B8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D37D-F129-4837-A4A5-D70ABA77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138B-3C95-4239-B4DA-879B8C45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03FE-BFDE-4F60-B89E-65D6709C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DDCF-F3D0-40F9-9612-61D9764A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7D61-EBC0-4068-9FF4-7BE6B796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E5A8-9DA9-4645-A53F-FD3ACF0B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EE1D-82B3-4464-8FC4-B3D714B5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17FF-BC9F-4761-B4CE-58175B3F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7C0-F464-45B1-A012-4A47A765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8C25-34DE-4B7A-AE3C-85AC1B08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3F21-0B2A-465F-ADB8-FEED794E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2933-9308-4590-B1C3-82CB21A1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B180-E7B5-489B-BF0F-38BA9114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21DA-D775-4221-9A54-19330D19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E6A85-00C7-4F3A-829F-1FF844B4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A4F17-F872-4EA9-8EB1-1A917177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21A77-42CA-4CF9-AD1D-F835F6D5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43D8F-E521-40E9-A764-67F7A4DC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DECC3-3DFE-4942-9340-2FD1D703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8DB-FB84-4638-B6D7-DED484D4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1A2DB-5008-40C7-AEF0-0A893679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81708-2BD3-4FB2-B1E5-398319EC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6F31D-0654-4662-8DE2-70F5B5A8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F0319-3503-4030-B36A-EB5FBFB9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B6795-EB4E-4BBE-BF2F-28048828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FE9E3-51A6-48C6-8FFF-D03A2756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932AD-B527-45A3-9351-93143F91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6DB92-6ACA-47F0-8922-70EE127F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434D0-BD20-4513-B83E-744E2575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91C0A-C002-4E0F-8297-781BA375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7410-4B8B-4DE7-A413-2872FA7C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C7514-58D9-47CD-9E9B-7AD45BC5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AB2E1-1B36-4303-A5C1-EF36F8E5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3D828-AD97-4143-88BC-CDF262D8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E9C0E-C7C2-4037-ACBF-E5A19296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32C2F-CB08-4C76-985A-E5FBBC7A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E8EDF-4C02-41DB-AB64-8C2A54CF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AE223-3B66-445D-ABFA-B181D8AF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C6810-F958-421A-8F5C-DCE93FA6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9B5E0-B9F6-428B-A748-A88E1073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54F-56A2-46E1-958C-EFD1BC58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2FD-2CCA-4A74-BE4D-9AD63817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9669-E6CB-4396-A09E-6C6E1E90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F9C-2A26-4862-92AB-1A22D8D7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177E-B540-4153-9E37-51733235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FEC0-A77B-44C4-8195-9536B8307CA6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D77F-EA06-43A6-8988-6AD9FC73A0C4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C813-B866-41AD-8D41-3C2A662AEE95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54EA-464D-49D5-ACF1-A145BE3E60BA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4800" spc="-1" strike="noStrike">
                <a:solidFill>
                  <a:srgbClr val="ff6600"/>
                </a:solidFill>
                <a:latin typeface="Monotype Corsiva"/>
              </a:rPr>
              <a:t>Bhopal Gas Tragedy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3200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Over to you Aniket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Methyl Isocyanate </a:t>
            </a:r>
            <a:br>
              <a:rPr sz="3800"/>
            </a:b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Physical  and Chemical Characterist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thyl Isocyanate (C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N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iquid 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olati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olourl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Strong, sharp od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sh Point – -7</a:t>
            </a:r>
            <a:r>
              <a:rPr b="0" lang="en-IN" sz="18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olecular weight: 57.05 dalt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Boiling point (760 mm Hg): 102ºF (39.1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reezing point: -49ºF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pressure: 348 mm Hg at 68ºF (20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density: 1.42 (air = 1.0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Water solubility: Reactive 6.7% at 68ºF (20º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ility: Highly flamma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le Range: 5.3% to 26% (concentration in air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Reason for Ci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Methyl Isocyanate is on the Hazardous Substances List and is regulated by OSHA and cited by ACGIH, DOT, EPA and other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Is on the Special Health Hazard Substance List because it is flammable and reactiv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mergency 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838080" y="1787400"/>
          <a:ext cx="7162920" cy="3776760"/>
        </p:xfrm>
        <a:graphic>
          <a:graphicData uri="http://schemas.openxmlformats.org/drawingml/2006/table">
            <a:tbl>
              <a:tblPr/>
              <a:tblGrid>
                <a:gridCol w="2362320"/>
                <a:gridCol w="2413080"/>
                <a:gridCol w="23875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Hazard R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JDH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F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il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58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le and Reac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on Inhalation Haz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t us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ionous Gases are produced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iners may explode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N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zard Rating Key: 0-minimal, 1-slight, 2-moderate, 3-serious, 4-seve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600200" y="762120"/>
          <a:ext cx="6248520" cy="5673600"/>
        </p:xfrm>
        <a:graphic>
          <a:graphicData uri="http://schemas.openxmlformats.org/drawingml/2006/table">
            <a:tbl>
              <a:tblPr/>
              <a:tblGrid>
                <a:gridCol w="533520"/>
                <a:gridCol w="1523880"/>
                <a:gridCol w="914400"/>
                <a:gridCol w="1143000"/>
                <a:gridCol w="2133720"/>
              </a:tblGrid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N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in factor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 of original pol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ene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an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tho-idichlorobenz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n tetr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 methyl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y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benzyl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chloro 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dica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ary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ene Hex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methyl 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g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 chlor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sulphon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 Naphthol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tha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waste Ta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 Isocyan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24" name="Text Box 769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ff6600"/>
                </a:solidFill>
                <a:latin typeface="Monotype Corsiva"/>
              </a:rPr>
              <a:t>Chemicals Dumped by Union Carbide in Bhop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Haphazard dumping of Hazardous Mater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35" descr="cycleshed"/>
          <p:cNvPicPr/>
          <p:nvPr/>
        </p:nvPicPr>
        <p:blipFill>
          <a:blip r:embed="rId1"/>
          <a:stretch/>
        </p:blipFill>
        <p:spPr>
          <a:xfrm>
            <a:off x="6094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6" descr="soapstoneshed"/>
          <p:cNvPicPr/>
          <p:nvPr/>
        </p:nvPicPr>
        <p:blipFill>
          <a:blip r:embed="rId2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7" descr="formulationshed"/>
          <p:cNvPicPr/>
          <p:nvPr/>
        </p:nvPicPr>
        <p:blipFill>
          <a:blip r:embed="rId3"/>
          <a:stretch/>
        </p:blipFill>
        <p:spPr>
          <a:xfrm>
            <a:off x="327672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8" descr="poisonwastetanks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9" descr="small-shed"/>
          <p:cNvPicPr/>
          <p:nvPr/>
        </p:nvPicPr>
        <p:blipFill>
          <a:blip r:embed="rId5"/>
          <a:stretch/>
        </p:blipFill>
        <p:spPr>
          <a:xfrm>
            <a:off x="58672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0" descr="bhc_store"/>
          <p:cNvPicPr/>
          <p:nvPr/>
        </p:nvPicPr>
        <p:blipFill>
          <a:blip r:embed="rId6"/>
          <a:stretch/>
        </p:blipFill>
        <p:spPr>
          <a:xfrm>
            <a:off x="586728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23880" y="1752480"/>
          <a:ext cx="5181840" cy="3276720"/>
        </p:xfrm>
        <a:graphic>
          <a:graphicData uri="http://schemas.openxmlformats.org/drawingml/2006/table">
            <a:tbl>
              <a:tblPr/>
              <a:tblGrid>
                <a:gridCol w="3084480"/>
                <a:gridCol w="2097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nzene, oxyb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chlorobenzen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7,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ynuclear Aromatic Hydrocarb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thala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chlorobenze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methyl Trianzintr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,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Napthalen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9,0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34" name="Rectangle 91"/>
          <p:cNvSpPr/>
          <p:nvPr/>
        </p:nvSpPr>
        <p:spPr>
          <a:xfrm>
            <a:off x="1447920" y="51814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762120" y="2209680"/>
            <a:ext cx="8153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ead, Nickel, Copper, Chromium, Hexachlorocyclohexane and chlorobenzenes were found in soil samp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rcury was found to be between 20,000 to 6,000,000 times the standard level in so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Compensation and Legal Aspe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ensation of $470 million ($500 per dead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wenty years of passiven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ase was reviewed and put up in American Cour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20,000 KILL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120,000 SEVERELY AFFECT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…</a:t>
            </a: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And you thought only weapon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could cause Mass Destr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Preview</a:t>
            </a:r>
            <a:br>
              <a:rPr sz="3400"/>
            </a:b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mongst the worst Industrail Disasters of its time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Occurrence: 3</a:t>
            </a:r>
            <a:r>
              <a:rPr b="0" lang="en-IN" sz="17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December 1984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lace of occurrence: Bhopal, Madhya Pradesh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any: Union Carbide Corporat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hemical: Methyl Isocyanate (27 tons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487656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8"/>
          <p:cNvGrpSpPr/>
          <p:nvPr/>
        </p:nvGrpSpPr>
        <p:grpSpPr>
          <a:xfrm>
            <a:off x="457200" y="304920"/>
            <a:ext cx="8381880" cy="3962160"/>
            <a:chOff x="457200" y="304920"/>
            <a:chExt cx="8381880" cy="3962160"/>
          </a:xfrm>
        </p:grpSpPr>
        <p:pic>
          <p:nvPicPr>
            <p:cNvPr id="192" name="Picture 4" descr="pic2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88620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7" descr="pic1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4038480" cy="3960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Bhopal Scenar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3" descr="Union Carbide"/>
          <p:cNvPicPr/>
          <p:nvPr/>
        </p:nvPicPr>
        <p:blipFill>
          <a:blip r:embed="rId1"/>
          <a:stretch/>
        </p:blipFill>
        <p:spPr>
          <a:xfrm>
            <a:off x="2031840" y="1752480"/>
            <a:ext cx="5080320" cy="3645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2057400" y="5486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Union Carbide Corpo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Union Carbide Corp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Started in 1969 in bhop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hosgene, Monomethlyamine, Methyl Isocyanate (MIC) and the pesticide Carbaryl, also known as Sevi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aken over by DOW Chemicals in 200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15" descr="ScanImage001"/>
          <p:cNvPicPr/>
          <p:nvPr/>
        </p:nvPicPr>
        <p:blipFill>
          <a:blip r:embed="rId1"/>
          <a:srcRect l="0" t="0" r="23562" b="21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gasventscrubber"/>
          <p:cNvPicPr/>
          <p:nvPr/>
        </p:nvPicPr>
        <p:blipFill>
          <a:blip r:embed="rId1"/>
          <a:stretch/>
        </p:blipFill>
        <p:spPr>
          <a:xfrm>
            <a:off x="609480" y="438120"/>
            <a:ext cx="3714840" cy="5505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gasventscrubberstack"/>
          <p:cNvPicPr/>
          <p:nvPr/>
        </p:nvPicPr>
        <p:blipFill>
          <a:blip r:embed="rId2"/>
          <a:stretch/>
        </p:blipFill>
        <p:spPr>
          <a:xfrm>
            <a:off x="4800600" y="457200"/>
            <a:ext cx="3714840" cy="5372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609480" y="6095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876920" y="6110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 S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ffects on Human Healt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spiratory Disorders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Irritation to the lungs, causing coughing and/or shortness of breathing. Higher exposure caused build up of fluids (</a:t>
            </a:r>
            <a:r>
              <a:rPr b="0" lang="en-IN" sz="1700" spc="-1" strike="noStrike">
                <a:solidFill>
                  <a:srgbClr val="ff0000"/>
                </a:solidFill>
                <a:latin typeface="Verdana"/>
              </a:rPr>
              <a:t>pulmonary edema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). Caused Astham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Cancer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Caused mutation (genetic changes). It caused canc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productive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Association between exposure to Methyl Isocyanate and miscarriages. It may damage the growing fetus.May also affect fertility in men and wome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races of many toxins were found in the Brest Milk of mothers and were inturn transmitted to the recepient babi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Group 8"/>
          <p:cNvGrpSpPr/>
          <p:nvPr/>
        </p:nvGrpSpPr>
        <p:grpSpPr>
          <a:xfrm>
            <a:off x="111240" y="1828800"/>
            <a:ext cx="8956080" cy="3200400"/>
            <a:chOff x="111240" y="1828800"/>
            <a:chExt cx="8956080" cy="3200400"/>
          </a:xfrm>
        </p:grpSpPr>
        <p:pic>
          <p:nvPicPr>
            <p:cNvPr id="212" name="Picture 4" descr="bhopal14"/>
            <p:cNvPicPr/>
            <p:nvPr/>
          </p:nvPicPr>
          <p:blipFill>
            <a:blip r:embed="rId1"/>
            <a:stretch/>
          </p:blipFill>
          <p:spPr>
            <a:xfrm>
              <a:off x="111240" y="1828800"/>
              <a:ext cx="44604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6" descr="bhopal09"/>
            <p:cNvPicPr/>
            <p:nvPr/>
          </p:nvPicPr>
          <p:blipFill>
            <a:blip r:embed="rId2"/>
            <a:stretch/>
          </p:blipFill>
          <p:spPr>
            <a:xfrm>
              <a:off x="4606560" y="1828800"/>
              <a:ext cx="446076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nimal Slaugh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8:50:55Z</dcterms:created>
  <dc:creator>Creative</dc:creator>
  <dc:description/>
  <dc:language>en-US</dc:language>
  <cp:lastModifiedBy>RomaK</cp:lastModifiedBy>
  <dcterms:modified xsi:type="dcterms:W3CDTF">2015-09-04T09:26:23Z</dcterms:modified>
  <cp:revision>113</cp:revision>
  <dc:subject/>
  <dc:title>Bhopal Gas Tragedy</dc:title>
</cp:coreProperties>
</file>